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F7A-50D3-4031-8D6C-3ED1F06D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9A2-BBB3-409E-95E2-6E673E43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AB70-9CF4-4E44-AA65-FFF9BFD5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5104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240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0932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5104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240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6C4-B2DE-4B4C-A92D-5A64ECF5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E89E-619D-4745-AF54-ACA37587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6F89-9DCF-4E7D-9B33-B67CDA2A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46B5-B0F3-4CC7-BC72-DA3B44C9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0874-A563-485C-9A76-FC563F54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2E8A-4FC3-4593-92DD-B9039C3F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937D-B8E7-440B-83F9-AE25DF3A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B099-ED22-4992-A0FA-0DB17EB9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94D-57F2-4F11-AA70-60FB4A47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BE9B-52D3-4817-A4C7-256608D6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96C0-C957-4782-9417-0658B443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3B0F-9826-4B7B-916C-139284D9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98B4-8386-461C-8874-5795AB72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5104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240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0932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5104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240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4DDB-FDB2-4920-8F4A-7EEFD900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F69-2BC7-4574-B6A9-DCDB5D74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E25-7EC9-4032-9379-0D4F878A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5B9-C357-4A6F-85AF-D7650663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4D27-C557-4E79-8001-2D993759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FC2-B2F4-4EFE-A02E-07CE9798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3D2E-C8DA-4FD4-95CA-78217A65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548-906C-43A1-8D1E-89E1299A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5854-1935-4133-A863-D954908A8C1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720" y="2438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Impact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09F4-E5F3-4720-B282-D7C7A09E66F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5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76720" y="2438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Adjectives</a:t>
            </a:r>
            <a:endParaRPr b="0" lang="en-US" sz="66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85840" y="3580920"/>
            <a:ext cx="5257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Think of an adjective for each picture.</a:t>
            </a:r>
            <a:endParaRPr b="0" lang="en-US" sz="36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2324520" y="1820880"/>
            <a:ext cx="609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chitect"/>
              </a:rPr>
              <a:t>A ___________turtle.</a:t>
            </a:r>
            <a:endParaRPr b="0" lang="en-US" sz="5400" spc="-1" strike="noStrike">
              <a:solidFill>
                <a:srgbClr val="006666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62320" y="4114800"/>
          <a:ext cx="4583160" cy="219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4114800"/>
                    <a:ext cx="458316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Think of an adjective for each picture.</a:t>
            </a:r>
            <a:endParaRPr b="0" lang="en-US" sz="36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2317680" y="1820880"/>
            <a:ext cx="566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chitect"/>
              </a:rPr>
              <a:t>A ___________man.</a:t>
            </a:r>
            <a:endParaRPr b="0" lang="en-US" sz="5400" spc="-1" strike="noStrike">
              <a:solidFill>
                <a:srgbClr val="006666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8120" y="3124080"/>
          <a:ext cx="3124080" cy="28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3124080"/>
                    <a:ext cx="312408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Think of an adjective for each picture.</a:t>
            </a:r>
            <a:endParaRPr b="0" lang="en-US" sz="36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2373480" y="1820880"/>
            <a:ext cx="537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chitect"/>
              </a:rPr>
              <a:t>A ___________sun.</a:t>
            </a:r>
            <a:endParaRPr b="0" lang="en-US" sz="5400" spc="-1" strike="noStrike">
              <a:solidFill>
                <a:srgbClr val="006666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971800" y="2819520"/>
          <a:ext cx="323208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819520"/>
                    <a:ext cx="323208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Think of an adjective for each picture.</a:t>
            </a:r>
            <a:endParaRPr b="0" lang="en-US" sz="36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1820880"/>
            <a:ext cx="583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chitect"/>
              </a:rPr>
              <a:t>A ___________book.</a:t>
            </a:r>
            <a:endParaRPr b="0" lang="en-US" sz="5400" spc="-1" strike="noStrike">
              <a:solidFill>
                <a:srgbClr val="006666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505320" y="2895480"/>
          <a:ext cx="2203200" cy="346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895480"/>
                    <a:ext cx="2203200" cy="34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Think of an adjective for each picture.</a:t>
            </a:r>
            <a:endParaRPr b="0" lang="en-US" sz="36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2277720" y="1820880"/>
            <a:ext cx="602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chitect"/>
              </a:rPr>
              <a:t>A ___________apple.</a:t>
            </a:r>
            <a:endParaRPr b="0" lang="en-US" sz="5400" spc="-1" strike="noStrike">
              <a:solidFill>
                <a:srgbClr val="006666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52680" y="2743200"/>
          <a:ext cx="2673360" cy="34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2743200"/>
                    <a:ext cx="267336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Think of an adjective for each picture.</a:t>
            </a:r>
            <a:endParaRPr b="0" lang="en-US" sz="36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2248560" y="1820880"/>
            <a:ext cx="642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chitect"/>
              </a:rPr>
              <a:t>A ___________mouse.</a:t>
            </a:r>
            <a:endParaRPr b="0" lang="en-US" sz="5400" spc="-1" strike="noStrike">
              <a:solidFill>
                <a:srgbClr val="006666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657600" y="2666880"/>
          <a:ext cx="2147760" cy="332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666880"/>
                    <a:ext cx="214776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5:12:53Z</dcterms:created>
  <dc:creator>prussell</dc:creator>
  <dc:description/>
  <dc:language>en-US</dc:language>
  <cp:lastModifiedBy>dyera</cp:lastModifiedBy>
  <dcterms:modified xsi:type="dcterms:W3CDTF">2007-04-25T21:06:00Z</dcterms:modified>
  <cp:revision>2</cp:revision>
  <dc:subject/>
  <dc:title>Adjectives</dc:title>
</cp:coreProperties>
</file>